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00ABC-6AC8-4134-BED9-840A3351C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16228-F245-4238-8478-35A5F1F8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5423AA-C137-4CEB-AA88-8915807864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20E3A-8BC8-4C25-B608-755A7911D2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D03A6-6152-4FA9-BFDD-D52616215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50988-1080-41BE-9AEE-A4D223CD0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8069E-3E24-4538-A667-1D86BBDEA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820F9-C426-4997-BF57-5F2F3F6F5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6D992-6A24-4CD4-9079-2A844E6A3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C59AF9-CE5E-42EC-90D3-6AB9730C5A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8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038F72-919B-4E54-A2E7-BC07C96105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B568A3-9EFB-4425-BDFF-4AD941B0E7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352D1-CC2F-4A0F-B77C-5902A1D74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F2DF30-85F7-4A98-A84A-01CA12A1D0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F4861E-A163-4B6E-8588-E6DA12E239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8CC25B-57B0-4EFC-8CD7-EAF58858FD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D8790B-3F7E-438A-83DE-0A41FF34C8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E9BEA-60DE-4C28-BBEA-854CB7678E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6AFC4F-0297-420C-B991-A99E14A301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BD1BE5-E7DA-4112-81F0-D24D43B70F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C34EE4-47AA-4CEE-B468-C8E863A4DB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DD7FDB-E816-4469-8816-A66DEC08B9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656094-9A7B-4304-BBFE-BAD941EC5B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F868B-83E0-4D2A-A6A6-906104F82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3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BB9142-3153-40BD-9F95-E40F0B3714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8EC38C-0DB5-469A-885E-475F8F9B894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3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209D4F-BE4D-47EA-A909-5424F7C869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1EA5A1-C79B-4167-81CD-600AB7BF85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E7D235-1292-4DD5-8B25-70BA15AFD9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35506E-FB1E-4A03-BA1C-C23360EEDD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F38EEE-CDA9-420C-8B0C-3E0C011F3A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F65B0D-7BAC-4D75-BA15-88978069A5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7CDF99-737E-4080-9D0E-08F08036ED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4A2AFB-777D-445B-95A9-75A46404D1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9BED3-735D-44E4-8BAD-17D4F5230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5C642B-E3AA-409A-9D30-3CFFF16615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48197E-004C-472C-B85E-AE70F208D8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3EA706-FF9D-42BD-A865-EA7CF25294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F91BFE-EF36-4F88-A776-D647625885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C0AFA9-0D7C-4CC6-9F6C-DB58DEDC18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2DE6EE-FE21-4133-8712-FBE93F823A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8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A7BE73-C45A-4700-99DB-A296435D95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D12633-5320-4589-A2F5-CAB86964F6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7CEC6B-F8CE-4B3C-B401-D533E4B1CA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B47F39-4A61-4B3E-9268-54FEEE0150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235A4-1F3D-4D42-A1A0-08A3CF844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26F625-1B43-4849-B7B1-3CF8634FEF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72C275-542F-4781-AB5A-6540AE1D20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CDE6A2-6AD6-47EA-97CC-0BE6F9A78F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05F32D-982B-46E7-A9C5-8771EBC32E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1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D010B4-ED95-4710-AD49-F6EB4D8FD6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41A8EC-FE3D-4BD2-8BD1-044A988817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15AF8C-5BD3-4293-9D16-B7622BB374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5A8CFD-B1D2-4276-AE81-6AB4C5E0C2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2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DAABC0-6265-437E-ACF6-790C24C77E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AFA3BF-5481-40B5-B6D6-15BD2BCA30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53931-1893-4D29-BF41-66085F18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58877F-18EF-40DB-9172-04A8973523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4B160D-192B-4CCD-A6F0-8AE8D88B10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FEC010-F2BA-4E21-A230-F10BAB577C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C87690-1576-42C7-A306-EACC87C5AB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936190-C254-4ED5-81FC-5B3ACF18B4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6D1770-8C41-4B14-B7C2-DD52BC2175B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5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82590E-7D39-463A-87D1-8644433DD56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E4D9-5975-4B25-B781-ED135895D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BF6D1-0D6C-4A24-B660-48268BE1B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2DD8C-5860-4B3F-8EB0-C8558562D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F07F-B9C8-4879-BCC2-87F63D3E3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A395-0107-416A-8AD2-674A33DF7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68AE8-BDDE-471E-9059-DF56FED11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789B5-4029-4404-A817-E52863DC3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C1072-22E7-4E92-B27E-E4FF28E89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EE9A9-D963-4269-B89F-21362F2AA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2A66E-F3DB-4214-A146-8EF27DDC7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617DC-3DA1-429D-8F3D-C54691172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BB231-8D1C-4A51-B0EE-EDFF3CED6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F6542-AD50-401B-ADF9-AFE9F8A32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6BD12-4502-4A40-994D-5CBF43331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33C11-DFA1-4031-A366-2045CE6DD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D18C2-6C9A-4039-9263-7BAF5F89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FAD1D-5CA2-4EEB-B4B3-E0180C457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502A8-4E6E-4067-8585-87F3F36CF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B71D3-8FA8-42CD-BB3B-A4B46FBC4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75C93-C2B7-4E9F-80F5-FAAE41D56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0665A-40D4-48E3-AF75-71B2BAA110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318BA-E073-4328-9C3C-697542991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2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3C9EAB-EE3A-4F65-80F5-3CDA1067E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43DFB-680C-4E17-89FC-5BB8EC88C4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E3DC4D-311B-4EF5-850F-7AFBABFB1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B778D-16A9-4346-B94F-34E0DD719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0461-4BA9-4D7A-8231-917474C67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3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B82D1-26CC-4AB8-9EF6-60E526071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6745E-39A4-4FF8-86F4-39F487226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B745D-D423-4F2F-BFF5-AF7208D6F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460A0-FC96-40CD-952F-5C725CF2F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EE9BE-9B38-4DE7-B924-7633CF7DF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488E4-1047-4A9F-B240-FABD52B22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C6EA7F-733C-417F-9FA0-797C1BFD5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D3323B-7BA6-4B96-848B-9B1EBF769D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6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D0FA78-6635-4537-8011-1C4CCF204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319DD4-B60A-4F58-9E53-F15AF82FF3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28EB-F615-4DD2-8113-417A8807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7"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FA5B1-6889-43BA-B9F4-C32A74497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9"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7958D-9E36-40CA-8A6A-D1F84153B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14AA8B-6F4C-44CF-80EB-94B3A80C8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9EDC1-F7F6-4B2E-ABC7-669A33E5A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17F4F-DC5F-4EAF-A798-322FC9266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2EA8C-E339-41EC-9CEB-C48091B4E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2"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75DB5-79B8-4145-96E0-96C0E548C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4"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6"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A9533-1665-44FD-AE62-3A7518388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8"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9"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EB20A-6DAA-4BB1-ACE1-F8D919523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4"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EF2DA4-26F2-4D27-9760-4F0E9920F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79F5E-E202-4A04-8A97-47312F69B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6"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7"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8"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9"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0"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1"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669DB1-10EF-4F2F-A909-940F34680B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91E3D-C7D7-469D-A465-7DAC63257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96503-6096-4412-887B-E7B6636EE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42E48-676B-4382-8067-D8C347256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FDD60-7F26-461A-A48D-F74272997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43534-C0B0-4C45-B624-B2D48D22F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B0C8E-4129-4581-9D20-BF602B1D5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7A09C-5A78-4CD9-A5FA-11141EB47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BB177-E0FD-48AD-B566-4D7A6A298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3A837-E022-4A8E-AAF3-B28C90E3D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3E0B-228F-4B97-BD47-B293CF58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0052B-8512-4309-B6DC-BAF5DB4E1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8602CB-F2C7-4CD9-9928-1D722D059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6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F9D019-8D14-467D-A7A1-0EED80851F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080000-9ABF-4604-BA59-F0DD51A7EC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69"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FAF2E5-397F-44D3-91F7-CF2E15483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1"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E9AEFF-1B8D-4176-863C-C0E61F1D7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3"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D5390-2B7F-4D23-9D07-C25A30C357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3E186-ACC5-499A-B0A4-DA57A8EE7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E9A26-EEFD-4CD1-8DA7-8BD05D876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BA694-DDC5-4915-8557-3D2B9FF5D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72A0-89EE-4618-AF70-1989EC8B3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4"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1A743-713D-45C7-BB0E-334A8F87F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8"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85153-CA2A-49E2-969D-38F57DA62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0"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1"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5812E-D2CE-481C-8960-7E106BD81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6"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34BD7B-E14D-4BB4-A957-9E3D9504B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8"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9"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0"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1"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3"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A2D595-3C76-4215-9227-3CCCCDF35F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9C5AB6-5CD8-4DD8-A628-888488DAC8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2"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659F3-DCD1-4A2A-B65F-4948AFA3B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4"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94BED-F4D7-4050-804C-D5402D962C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6"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6C77E-B7C9-4E35-B1F9-816E1ABC26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422C2B-8189-47A7-B232-58DA013D5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61EF-C39A-4022-BF49-98590272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EF856-E07F-4245-91DC-75B48A6E00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F22FD-ACD4-4A9C-AD70-D2185EB98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7"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FEF70-0C56-40A3-969A-C008897E7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9"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1"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ACD73-D908-4776-A578-F3AC30BD5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3"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4"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3A860-CFFF-4222-88B5-1F871F682C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9"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5123B3-633B-4D65-90CB-769EF3109E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41"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2"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3"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4"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5"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6"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AABE64-15A4-4915-84E0-2030094965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D642A-2A15-4E6F-9596-3D66DC94E7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393E4-4C75-4F7F-9428-15B6FF5E52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D0A3DE-FB2D-4DBB-82F3-DABBCCC931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 name="PlaceHolder 3"/>
          <p:cNvSpPr>
            <a:spLocks noGrp="1"/>
          </p:cNvSpPr>
          <p:nvPr>
            <p:ph type="dt" idx="1"/>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DB667-9F11-40C2-A082-F5786435442A}"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431F0-DA45-46F7-A684-149A673D3565}"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9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92" name="PlaceHolder 3"/>
          <p:cNvSpPr>
            <a:spLocks noGrp="1"/>
          </p:cNvSpPr>
          <p:nvPr>
            <p:ph type="dt" idx="28"/>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15382-6EC5-4332-96CD-9D38825F9FF0}"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393" name="PlaceHolder 4"/>
          <p:cNvSpPr>
            <a:spLocks noGrp="1"/>
          </p:cNvSpPr>
          <p:nvPr>
            <p:ph type="ftr" idx="29"/>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4" name="PlaceHolder 5"/>
          <p:cNvSpPr>
            <a:spLocks noGrp="1"/>
          </p:cNvSpPr>
          <p:nvPr>
            <p:ph type="sldNum" idx="30"/>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9E0D1-A242-493A-8661-C2B5B8FB3680}"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34" name="PlaceHolder 3"/>
          <p:cNvSpPr>
            <a:spLocks noGrp="1"/>
          </p:cNvSpPr>
          <p:nvPr>
            <p:ph type="dt" idx="31"/>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771B9-7BEB-4879-BBD8-188B549BF88C}"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435" name="PlaceHolder 4"/>
          <p:cNvSpPr>
            <a:spLocks noGrp="1"/>
          </p:cNvSpPr>
          <p:nvPr>
            <p:ph type="ftr" idx="3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5"/>
          <p:cNvSpPr>
            <a:spLocks noGrp="1"/>
          </p:cNvSpPr>
          <p:nvPr>
            <p:ph type="sldNum" idx="33"/>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CB07B-088B-4A78-80E4-B55C9AB05779}"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7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77" name="PlaceHolder 3"/>
          <p:cNvSpPr>
            <a:spLocks noGrp="1"/>
          </p:cNvSpPr>
          <p:nvPr>
            <p:ph type="dt" idx="34"/>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33B29-E79C-42D2-9F56-70547820B342}"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478" name="PlaceHolder 4"/>
          <p:cNvSpPr>
            <a:spLocks noGrp="1"/>
          </p:cNvSpPr>
          <p:nvPr>
            <p:ph type="ftr" idx="3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9" name="PlaceHolder 5"/>
          <p:cNvSpPr>
            <a:spLocks noGrp="1"/>
          </p:cNvSpPr>
          <p:nvPr>
            <p:ph type="sldNum" idx="36"/>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836EB-2E77-4197-B501-3036EC436838}"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51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20" name="PlaceHolder 3"/>
          <p:cNvSpPr>
            <a:spLocks noGrp="1"/>
          </p:cNvSpPr>
          <p:nvPr>
            <p:ph type="dt" idx="37"/>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A926B-D5DE-412D-8437-916A1237978D}"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521" name="PlaceHolder 4"/>
          <p:cNvSpPr>
            <a:spLocks noGrp="1"/>
          </p:cNvSpPr>
          <p:nvPr>
            <p:ph type="ftr" idx="3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2" name="PlaceHolder 5"/>
          <p:cNvSpPr>
            <a:spLocks noGrp="1"/>
          </p:cNvSpPr>
          <p:nvPr>
            <p:ph type="sldNum" idx="39"/>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919CA-24ED-4801-9185-B63BD2B7A285}"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Rectangle 6" descr=""/>
          <p:cNvPicPr/>
          <p:nvPr/>
        </p:nvPicPr>
        <p:blipFill>
          <a:blip r:embed="rId3"/>
          <a:stretch/>
        </p:blipFill>
        <p:spPr>
          <a:xfrm>
            <a:off x="603360" y="1427040"/>
            <a:ext cx="7937280" cy="6546960"/>
          </a:xfrm>
          <a:prstGeom prst="rect">
            <a:avLst/>
          </a:prstGeom>
          <a:ln w="0">
            <a:noFill/>
          </a:ln>
        </p:spPr>
      </p:pic>
      <p:sp>
        <p:nvSpPr>
          <p:cNvPr id="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4" name="PlaceHolder 3"/>
          <p:cNvSpPr>
            <a:spLocks noGrp="1"/>
          </p:cNvSpPr>
          <p:nvPr>
            <p:ph type="dt" idx="4"/>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6A4DB-79AC-47E3-B0AB-DBE31F482CC1}"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5"/>
          <p:cNvSpPr>
            <a:spLocks noGrp="1"/>
          </p:cNvSpPr>
          <p:nvPr>
            <p:ph type="sldNum" idx="6"/>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2BBC8-61A2-43CB-9A7F-4F9DE625F97A}"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8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87" name="PlaceHolder 3"/>
          <p:cNvSpPr>
            <a:spLocks noGrp="1"/>
          </p:cNvSpPr>
          <p:nvPr>
            <p:ph type="dt" idx="7"/>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214E9-6886-4C58-9D71-0C22D473674C}"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PlaceHolder 5"/>
          <p:cNvSpPr>
            <a:spLocks noGrp="1"/>
          </p:cNvSpPr>
          <p:nvPr>
            <p:ph type="sldNum" idx="9"/>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27BB8-8061-4351-B837-A69531B16DA1}"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2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30" name="PlaceHolder 3"/>
          <p:cNvSpPr>
            <a:spLocks noGrp="1"/>
          </p:cNvSpPr>
          <p:nvPr>
            <p:ph type="dt" idx="10"/>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7BC24-42B9-4371-8A42-4AC1F150C214}"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131" name="PlaceHolder 4"/>
          <p:cNvSpPr>
            <a:spLocks noGrp="1"/>
          </p:cNvSpPr>
          <p:nvPr>
            <p:ph type="ftr" idx="11"/>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2" name="PlaceHolder 5"/>
          <p:cNvSpPr>
            <a:spLocks noGrp="1"/>
          </p:cNvSpPr>
          <p:nvPr>
            <p:ph type="sldNum" idx="12"/>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1AD7B-59AD-4B3C-BA1C-F7A3C3FC3961}"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72"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73" name="PlaceHolder 3"/>
          <p:cNvSpPr>
            <a:spLocks noGrp="1"/>
          </p:cNvSpPr>
          <p:nvPr>
            <p:ph type="dt" idx="13"/>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E50DE-873C-41E2-83B8-A2EDD9B67AE5}"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174" name="PlaceHolder 4"/>
          <p:cNvSpPr>
            <a:spLocks noGrp="1"/>
          </p:cNvSpPr>
          <p:nvPr>
            <p:ph type="ftr" idx="14"/>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5"/>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E04C6-053E-4C14-B4CF-082D5FC9FE21}"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Freeform 8"/>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Freeform 9"/>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Freeform 10"/>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Freeform 11"/>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Freeform 12"/>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Freeform 13"/>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2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22" name="PlaceHolder 3"/>
          <p:cNvSpPr>
            <a:spLocks noGrp="1"/>
          </p:cNvSpPr>
          <p:nvPr>
            <p:ph type="dt" idx="16"/>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2DC2C-CCC8-40FF-ADD2-2A9BA3EB6DED}"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223" name="PlaceHolder 4"/>
          <p:cNvSpPr>
            <a:spLocks noGrp="1"/>
          </p:cNvSpPr>
          <p:nvPr>
            <p:ph type="ftr" idx="17"/>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PlaceHolder 5"/>
          <p:cNvSpPr>
            <a:spLocks noGrp="1"/>
          </p:cNvSpPr>
          <p:nvPr>
            <p:ph type="sldNum" idx="18"/>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9BF06-DB47-49A5-AACE-E37CC9C9DB77}"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64"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65" name="PlaceHolder 3"/>
          <p:cNvSpPr>
            <a:spLocks noGrp="1"/>
          </p:cNvSpPr>
          <p:nvPr>
            <p:ph type="dt" idx="19"/>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30771-F26A-4317-AC0C-2ACD77C70E60}"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266" name="PlaceHolder 4"/>
          <p:cNvSpPr>
            <a:spLocks noGrp="1"/>
          </p:cNvSpPr>
          <p:nvPr>
            <p:ph type="ftr" idx="20"/>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21"/>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EC786-502F-429C-93B5-8FDCE341B6F2}"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07"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08" name="PlaceHolder 3"/>
          <p:cNvSpPr>
            <a:spLocks noGrp="1"/>
          </p:cNvSpPr>
          <p:nvPr>
            <p:ph type="dt" idx="22"/>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73220-67B0-4BF7-8F75-654EB22A4042}"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309" name="PlaceHolder 4"/>
          <p:cNvSpPr>
            <a:spLocks noGrp="1"/>
          </p:cNvSpPr>
          <p:nvPr>
            <p:ph type="ftr" idx="23"/>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PlaceHolder 5"/>
          <p:cNvSpPr>
            <a:spLocks noGrp="1"/>
          </p:cNvSpPr>
          <p:nvPr>
            <p:ph type="sldNum" idx="24"/>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4F5A7-D530-4013-8E23-D700F6C74357}"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4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50" name="PlaceHolder 3"/>
          <p:cNvSpPr>
            <a:spLocks noGrp="1"/>
          </p:cNvSpPr>
          <p:nvPr>
            <p:ph type="dt" idx="25"/>
          </p:nvPr>
        </p:nvSpPr>
        <p:spPr>
          <a:xfrm>
            <a:off x="3505320" y="6356520"/>
            <a:ext cx="2133360" cy="365040"/>
          </a:xfrm>
          <a:prstGeom prst="rect">
            <a:avLst/>
          </a:prstGeom>
          <a:noFill/>
          <a:ln w="0">
            <a:noFill/>
          </a:ln>
        </p:spPr>
        <p:txBody>
          <a:bodyPr lIns="0" rIns="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612DC-4A71-49AA-AD9D-CE8A32869D9C}" type="datetime">
              <a:rPr b="0" lang="en-US" sz="1100" spc="-1" strike="noStrike">
                <a:solidFill>
                  <a:srgbClr val="bfbfbf"/>
                </a:solidFill>
                <a:latin typeface="Corbel"/>
              </a:rPr>
              <a:t>07/30/26</a:t>
            </a:fld>
            <a:endParaRPr b="0" lang="en-US" sz="1100" spc="-1" strike="noStrike">
              <a:solidFill>
                <a:srgbClr val="000000"/>
              </a:solidFill>
              <a:latin typeface="Times New Roman"/>
            </a:endParaRPr>
          </a:p>
        </p:txBody>
      </p:sp>
      <p:sp>
        <p:nvSpPr>
          <p:cNvPr id="351" name="PlaceHolder 4"/>
          <p:cNvSpPr>
            <a:spLocks noGrp="1"/>
          </p:cNvSpPr>
          <p:nvPr>
            <p:ph type="ftr" idx="26"/>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2" name="PlaceHolder 5"/>
          <p:cNvSpPr>
            <a:spLocks noGrp="1"/>
          </p:cNvSpPr>
          <p:nvPr>
            <p:ph type="sldNum" idx="27"/>
          </p:nvPr>
        </p:nvSpPr>
        <p:spPr>
          <a:xfrm>
            <a:off x="8077320" y="6356520"/>
            <a:ext cx="761760" cy="365040"/>
          </a:xfrm>
          <a:prstGeom prst="rect">
            <a:avLst/>
          </a:prstGeom>
          <a:noFill/>
          <a:ln w="0">
            <a:noFill/>
          </a:ln>
        </p:spPr>
        <p:txBody>
          <a:bodyPr lIns="0" rIns="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4ADE1-CED4-4CEA-AAC0-C27F27FF9B76}" type="slidenum">
              <a:rPr b="0" lang="en-US" sz="1100" spc="-1" strike="noStrike">
                <a:solidFill>
                  <a:srgbClr val="bfbfbf"/>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9" name="Title 1" descr=""/>
          <p:cNvPicPr/>
          <p:nvPr/>
        </p:nvPicPr>
        <p:blipFill>
          <a:blip r:embed="rId2"/>
          <a:stretch/>
        </p:blipFill>
        <p:spPr>
          <a:xfrm>
            <a:off x="652320" y="1530360"/>
            <a:ext cx="7839360" cy="1646280"/>
          </a:xfrm>
          <a:prstGeom prst="rect">
            <a:avLst/>
          </a:prstGeom>
          <a:ln w="0">
            <a:noFill/>
          </a:ln>
        </p:spPr>
      </p:pic>
      <p:pic>
        <p:nvPicPr>
          <p:cNvPr id="560" name="Subtitle 2" descr=""/>
          <p:cNvPicPr/>
          <p:nvPr/>
        </p:nvPicPr>
        <p:blipFill>
          <a:blip r:embed="rId3"/>
          <a:stretch/>
        </p:blipFill>
        <p:spPr>
          <a:xfrm>
            <a:off x="652320" y="3213000"/>
            <a:ext cx="7839360" cy="8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ocation and physical features </a:t>
            </a:r>
            <a:endParaRPr b="0" lang="en-US" sz="4800" spc="-1" strike="noStrike">
              <a:solidFill>
                <a:srgbClr val="ffffff"/>
              </a:solidFill>
              <a:latin typeface="Corbel"/>
            </a:endParaRPr>
          </a:p>
        </p:txBody>
      </p:sp>
      <p:sp>
        <p:nvSpPr>
          <p:cNvPr id="562" name=""/>
          <p:cNvSpPr txBox="1"/>
          <p:nvPr/>
        </p:nvSpPr>
        <p:spPr>
          <a:xfrm>
            <a:off x="618840" y="1600200"/>
            <a:ext cx="7878600" cy="2913120"/>
          </a:xfrm>
          <a:prstGeom prst="rect">
            <a:avLst/>
          </a:prstGeom>
          <a:noFill/>
          <a:ln w="0">
            <a:noFill/>
          </a:ln>
        </p:spPr>
        <p:txBody>
          <a:bodyPr anchor="t">
            <a:normAutofit fontScale="90000"/>
          </a:bodyPr>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dus Valley civilization was in the north-west of india</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It was also next to the Indus river and Himalayas</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absolute location is </a:t>
            </a:r>
            <a:r>
              <a:rPr b="0" lang="en-GB" sz="2200" spc="-1" strike="noStrike">
                <a:solidFill>
                  <a:srgbClr val="ffffff"/>
                </a:solidFill>
                <a:latin typeface="Corbel"/>
              </a:rPr>
              <a:t>28(degrees) 35’N and 77(degrees) 12’E</a:t>
            </a:r>
            <a:endParaRPr b="0" lang="en-US" sz="2200" spc="-1" strike="noStrike">
              <a:solidFill>
                <a:srgbClr val="ffffff"/>
              </a:solidFill>
              <a:latin typeface="Corbel"/>
            </a:endParaRPr>
          </a:p>
          <a:p>
            <a:pPr marL="314280" indent="-3142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e Indus valley had the Indus river going thought it. It also had the Himalayas as well as the Arabian sea on the coast  </a:t>
            </a:r>
            <a:endParaRPr b="0" lang="en-US" sz="2200" spc="-1" strike="noStrike">
              <a:solidFill>
                <a:srgbClr val="ffffff"/>
              </a:solidFill>
              <a:latin typeface="Corbel"/>
            </a:endParaRPr>
          </a:p>
        </p:txBody>
      </p:sp>
      <p:pic>
        <p:nvPicPr>
          <p:cNvPr id="563" name="Picture 3" descr=""/>
          <p:cNvPicPr/>
          <p:nvPr/>
        </p:nvPicPr>
        <p:blipFill>
          <a:blip r:embed="rId2"/>
          <a:stretch/>
        </p:blipFill>
        <p:spPr>
          <a:xfrm>
            <a:off x="2743200" y="4140360"/>
            <a:ext cx="2841480" cy="228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9340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ummary of Key Events</a:t>
            </a:r>
            <a:endParaRPr b="0" lang="en-US" sz="4800" spc="-1" strike="noStrike">
              <a:solidFill>
                <a:srgbClr val="ffffff"/>
              </a:solidFill>
              <a:latin typeface="Corbel"/>
            </a:endParaRPr>
          </a:p>
        </p:txBody>
      </p:sp>
      <p:sp>
        <p:nvSpPr>
          <p:cNvPr id="565" name=""/>
          <p:cNvSpPr txBox="1"/>
          <p:nvPr/>
        </p:nvSpPr>
        <p:spPr>
          <a:xfrm>
            <a:off x="457200" y="1417680"/>
            <a:ext cx="8229600" cy="544032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Indian civilization arose in the Indus valley 4,500 years ago</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eople settled throughout the entire subcontinent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gions included modern countries of India, Pakistan, Bangladesh, Nepal, Bhutan, and Sri Lanka</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Many people made their living through trade. Indian goods included silks, cottons, cashmere, ivory, spices and precious gems that could be found in the far east.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ryabhata, an Indian mathematician, computed the value of π.</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Art from the Indus Civilization including artifacts still remain today </a:t>
            </a:r>
            <a:endParaRPr b="0" lang="en-US" sz="20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practice of yoga still remain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Arts</a:t>
            </a:r>
            <a:endParaRPr b="0" lang="en-US" sz="4800" spc="-1" strike="noStrike">
              <a:solidFill>
                <a:srgbClr val="ffffff"/>
              </a:solidFill>
              <a:latin typeface="Corbel"/>
            </a:endParaRPr>
          </a:p>
        </p:txBody>
      </p:sp>
      <p:sp>
        <p:nvSpPr>
          <p:cNvPr id="567" name=""/>
          <p:cNvSpPr txBox="1"/>
          <p:nvPr/>
        </p:nvSpPr>
        <p:spPr>
          <a:xfrm>
            <a:off x="457200" y="1177920"/>
            <a:ext cx="8229600" cy="5446800"/>
          </a:xfrm>
          <a:prstGeom prst="rect">
            <a:avLst/>
          </a:prstGeom>
          <a:noFill/>
          <a:ln w="0">
            <a:noFill/>
          </a:ln>
        </p:spPr>
        <p:txBody>
          <a:bodyPr anchor="t">
            <a:normAutofit fontScale="82000"/>
          </a:bodyPr>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rts emerged from the Indus Valley during the second half of the 3</a:t>
            </a:r>
            <a:r>
              <a:rPr b="0" lang="en-US" sz="2400" spc="-1" strike="noStrike" baseline="30000">
                <a:solidFill>
                  <a:srgbClr val="ffffff"/>
                </a:solidFill>
                <a:latin typeface="Corbel"/>
              </a:rPr>
              <a:t>rd</a:t>
            </a:r>
            <a:r>
              <a:rPr b="0" lang="en-US" sz="2400" spc="-1" strike="noStrike">
                <a:solidFill>
                  <a:srgbClr val="ffffff"/>
                </a:solidFill>
                <a:latin typeface="Corbel"/>
              </a:rPr>
              <a:t> millennium B.C</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vic planning was very advanced (examples including the cities of Harappa, destroyed in the 19</a:t>
            </a:r>
            <a:r>
              <a:rPr b="0" lang="en-US" sz="2400" spc="-1" strike="noStrike" baseline="30000">
                <a:solidFill>
                  <a:srgbClr val="ffffff"/>
                </a:solidFill>
                <a:latin typeface="Corbel"/>
              </a:rPr>
              <a:t>th</a:t>
            </a:r>
            <a:r>
              <a:rPr b="0" lang="en-US" sz="2400" spc="-1" strike="noStrike">
                <a:solidFill>
                  <a:srgbClr val="ffffff"/>
                </a:solidFill>
                <a:latin typeface="Corbel"/>
              </a:rPr>
              <a:t> century, and Mohenjo- Daro</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roduced many statuettes made of limestone and steatite </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quare steatite seals resembling animal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ramic storage jars with simple stylized design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oys with wheel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gurines (which may be mother goddesses)</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ronze weapons, tools, &amp; sculptures </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verall, the Indus Valley civilization was a sophisticated civilization in terms of craftmenship</a:t>
            </a: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6200" indent="-286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Arts Continued</a:t>
            </a:r>
            <a:endParaRPr b="0" lang="en-US" sz="4800" spc="-1" strike="noStrike">
              <a:solidFill>
                <a:srgbClr val="ffffff"/>
              </a:solidFill>
              <a:latin typeface="Corbel"/>
            </a:endParaRPr>
          </a:p>
        </p:txBody>
      </p:sp>
      <p:sp>
        <p:nvSpPr>
          <p:cNvPr id="569"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ural paintings in caves that tell about the artistic style of early Indian painter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stictive styles of Hindu temple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quare building with heavy walls enclosing a statue of a god</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pecific Example</a:t>
            </a:r>
            <a:endParaRPr b="0" lang="en-US" sz="4800" spc="-1" strike="noStrike">
              <a:solidFill>
                <a:srgbClr val="ffffff"/>
              </a:solidFill>
              <a:latin typeface="Corbel"/>
            </a:endParaRPr>
          </a:p>
        </p:txBody>
      </p:sp>
      <p:pic>
        <p:nvPicPr>
          <p:cNvPr id="571" name="Picture 3" descr="464px-Mohenjo-daro_Priesterkönig.jpeg"/>
          <p:cNvPicPr/>
          <p:nvPr/>
        </p:nvPicPr>
        <p:blipFill>
          <a:blip r:embed="rId2"/>
          <a:stretch/>
        </p:blipFill>
        <p:spPr>
          <a:xfrm rot="21370800">
            <a:off x="457200" y="1522080"/>
            <a:ext cx="3267000" cy="4216320"/>
          </a:xfrm>
          <a:prstGeom prst="rect">
            <a:avLst/>
          </a:prstGeom>
          <a:ln w="0">
            <a:noFill/>
          </a:ln>
        </p:spPr>
      </p:pic>
      <p:sp>
        <p:nvSpPr>
          <p:cNvPr id="572" name="TextBox 5"/>
          <p:cNvSpPr/>
          <p:nvPr/>
        </p:nvSpPr>
        <p:spPr>
          <a:xfrm>
            <a:off x="4122720" y="1674720"/>
            <a:ext cx="456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   </a:t>
            </a:r>
            <a:r>
              <a:rPr b="0" lang="en-US" sz="2400" spc="-1" strike="noStrike">
                <a:solidFill>
                  <a:srgbClr val="ffffff"/>
                </a:solidFill>
                <a:latin typeface="Calibri"/>
              </a:rPr>
              <a:t>This picture shows a priest/ king statue. Nobody is entirely certain whether it resembles  is a king or a priest. The artifact comes from Mohenjo-Daro and was probably created during the late Harappan period. Today, it is located at the National Museum of Karachi, Pakis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aws</a:t>
            </a:r>
            <a:endParaRPr b="0" lang="en-US" sz="4800" spc="-1" strike="noStrike">
              <a:solidFill>
                <a:srgbClr val="ffffff"/>
              </a:solidFill>
              <a:latin typeface="Corbel"/>
            </a:endParaRPr>
          </a:p>
        </p:txBody>
      </p:sp>
      <p:sp>
        <p:nvSpPr>
          <p:cNvPr id="574" name=""/>
          <p:cNvSpPr txBox="1"/>
          <p:nvPr/>
        </p:nvSpPr>
        <p:spPr>
          <a:xfrm>
            <a:off x="618840" y="1599840"/>
            <a:ext cx="7878600" cy="4638600"/>
          </a:xfrm>
          <a:prstGeom prst="rect">
            <a:avLst/>
          </a:prstGeom>
          <a:noFill/>
          <a:ln w="0">
            <a:noFill/>
          </a:ln>
        </p:spPr>
        <p:txBody>
          <a:bodyPr anchor="t">
            <a:normAutofit fontScale="83000"/>
          </a:bodyPr>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s were highly disciplined people</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had a strong understanding of their civic dutie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tizens kept their cities clean</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sidents would make sure that the underground drains were not choked from solid waste from the private baths’ drain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s cooperated completely when it came to planning the towns and rebuilding public areas such as docks, warehouses, fortification walls, and platforms</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 administration worked to standardize industrial products including metal tools and weapons and even units of length</a:t>
            </a: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89800" indent="-2898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Language</a:t>
            </a:r>
            <a:endParaRPr b="0" lang="en-US" sz="4800" spc="-1" strike="noStrike">
              <a:solidFill>
                <a:srgbClr val="ffffff"/>
              </a:solidFill>
              <a:latin typeface="Corbel"/>
            </a:endParaRPr>
          </a:p>
        </p:txBody>
      </p:sp>
      <p:sp>
        <p:nvSpPr>
          <p:cNvPr id="57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Harappan created a written language but no one has been able to decipher because linguist have not found any inscriptions that are bilingual so no one has fond part of the language transferred into another  language.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3:38:23Z</dcterms:created>
  <dc:creator>IT User</dc:creator>
  <dc:description/>
  <dc:language>en-US</dc:language>
  <cp:lastModifiedBy>IT User</cp:lastModifiedBy>
  <dcterms:modified xsi:type="dcterms:W3CDTF">2010-09-28T13:55:53Z</dcterms:modified>
  <cp:revision>3</cp:revision>
  <dc:subject/>
  <dc:title>Indus Valley Civilizations</dc:title>
</cp:coreProperties>
</file>